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15C-AEF4-4B49-9793-E07E7ECD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9FD9-6758-4947-A5E3-AF48B1FA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F965-C4C4-448B-8A01-5B064092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4D52-1D2C-4F80-98C0-377B35DB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0B3C-EC2E-4486-958C-59AEC2AD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83C0-7D3D-4FCB-9743-E2EC3938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69C0-6BCA-4CFA-9A84-7C86E5C8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3D22-A181-4F62-8FAC-2142ACB1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D93F-48C9-452D-9398-162F9392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28A6-9546-40AC-99B7-4B4C0BEB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94A6-E3B9-46E5-8386-6A4D68BC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F159-1C28-43FF-A0AA-1FA24FF3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DEB5-8D44-4A09-AE2D-5BF335C4BB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32418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 chale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716360" y="260280"/>
            <a:ext cx="399600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 amis et de la nei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6720" y="3213000"/>
            <a:ext cx="305928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556080"/>
            <a:ext cx="352728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58920" y="3213000"/>
            <a:ext cx="3600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’autob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3546000"/>
            <a:ext cx="3682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récré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3600360" cy="2703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46544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7:13:52Z</dcterms:created>
  <dc:creator>STI</dc:creator>
  <dc:description/>
  <dc:language>en-US</dc:language>
  <cp:lastModifiedBy>STI</cp:lastModifiedBy>
  <dcterms:modified xsi:type="dcterms:W3CDTF">2007-11-13T17:24:33Z</dcterms:modified>
  <cp:revision>3</cp:revision>
  <dc:subject/>
  <dc:title>Diapositive 1</dc:title>
</cp:coreProperties>
</file>